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9DF5-4410-419A-A005-31826B16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DE31-0378-43F6-BA60-434120E3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D372-7E9C-4C2A-BB0D-74567DEB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CFDC-919B-4586-B9BD-D58E302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8AD2-91A4-41A7-B06A-B598CB70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E0A3-DE1D-4CCD-8B9B-C33216F7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8AA-054F-49EF-8F25-DEDF8E07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F3D9-27A8-4AEF-9FE2-73BBC6F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E4BB-2359-4927-AB9E-707EE240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EDF1-2493-4B11-889C-11CE5278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ABB3-8408-433E-B8FC-9BC09C37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4916-45A0-495D-9482-352FAEF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D15-3396-4DD5-AE79-582088B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3909-9D01-4E45-BFCA-E1ABBE5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74F-2756-4D4D-9D0F-F0DEEB82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5EBC-E46E-428D-9AAD-4495174C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0FE-60A1-4795-B6AA-5EADAE7D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F9ED-6257-4F8E-B823-7CD497F7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109D-6C6A-495D-831D-AC401E6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B637-7EA6-4A57-8651-EFB78009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1B0A-2556-41C5-8BCC-E5F3CBE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B3D6-3DE1-43B8-9E45-EACF3159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1798-1DEE-45B5-BE12-9FD1BA7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DF9E-1987-433C-9CB8-DAE97C9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55A4-7D4D-444D-9BEC-58E03D1B1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1828800"/>
            <a:ext cx="8229600" cy="0"/>
          </a:xfrm>
          <a:prstGeom prst="line">
            <a:avLst/>
          </a:prstGeom>
          <a:ln cap="sq"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21C3-35AC-4F76-895E-5F1893CB0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ong of Solomon</a:t>
            </a:r>
            <a:br>
              <a:rPr sz="5000"/>
            </a:br>
            <a:r>
              <a:rPr b="0" i="1" lang="en-US" sz="5000" spc="-1" strike="noStrike">
                <a:solidFill>
                  <a:srgbClr val="ffffff"/>
                </a:solidFill>
                <a:latin typeface="Monotype Corsiva"/>
              </a:rPr>
              <a:t>“A Love Song”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rter 5, Lesson 2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ive Us A King – The United Kingdom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ges 213-22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rote 1,005 songs (1 Kings 4: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reason why the Holy Spirit inspired someone to wri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reason why it is included in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s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Solomon and his new bride as they seek to resolve their differences and come to a loving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Solomon trying to win the love of a maiden who loves an humble shephe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dron suggests the second of these as our basis for interpreting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6:36:28Z</dcterms:created>
  <dc:creator>Frank D Vines</dc:creator>
  <dc:description/>
  <dc:language>en-US</dc:language>
  <cp:lastModifiedBy>Frank D Vines</cp:lastModifiedBy>
  <dcterms:modified xsi:type="dcterms:W3CDTF">2005-06-29T17:06:12Z</dcterms:modified>
  <cp:revision>2</cp:revision>
  <dc:subject/>
  <dc:title>Song of Solomon “A Love Song”</dc:title>
</cp:coreProperties>
</file>